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89E6-6107-4476-9511-0E592010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and formats can evolve without affecting access to archiv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tible evolution of data model, by extensions, permits compatible evolution of format and AP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se for reading data, just recompile source against netCDF-4 libr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se for writing, just add a flag when creating a new netCDF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childr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Arctur of OGC suggested CF-netCDF as an OGC standard in May 2009 (at an IOOS meet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 Domenico presented this at the June 2009 OGC meeting, with general agreement tha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approp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netCDF reference implementation software in many analysis and visualization package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least as important as the standard format for interoperability and preserv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ftware interfaces insulate programs from format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CDF is also a foundation for other standards, e.g. the CF Co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 standardization is slow because there are no incentives or rewards for standardizing a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C116-0B6B-4D10-A3E9-B55D817C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64080" cy="41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his commitment was an admission that keeping netCDF releases backward compatible m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difficult, but it would really be easy compared to the amount of effort required to use 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drawing tools to create this slide’s b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F5EC-436F-4241-AC3D-FBBC7B527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6CC4-6705-46BD-9235-301396140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99F4-C2C4-4AE2-BC36-2CCDB559D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6DF0-615B-48F8-8EDF-0283C9083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F7B4-307B-4622-84C3-7246B2CD3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2EBF-1324-451D-B3AB-9FD1E9D95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ACC7-8E51-41DB-AFA5-BB906C05A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25E6-267E-42E5-B7DE-697EC7C46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F201-84E9-4A75-9348-04A2E769E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F5B1-642B-415E-A6B7-3D83F39E2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0DA3-4E3D-48D4-B58C-FE1C1635D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AA32-31D3-4801-BDE4-41B5D84DB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761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77D3-63B4-4377-9F4B-30E9F5C04E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tCDF and Scientific Data Durabi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 Rew, UCAR Uni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IP Federation Summer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-07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19640" y="5597640"/>
            <a:ext cx="731880" cy="92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5602320"/>
            <a:ext cx="887400" cy="911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066680" y="560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pects of compatibi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 to support older interfaces and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compatibility testing with every software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archives don’t have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program sources don’t have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can access archived data without being aware of format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compatibly evolving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grow abstractions, instead of replac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previous data model is included in enhanced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i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netCDF data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78400" y="5587920"/>
            <a:ext cx="538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1808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A file has variables, dimensions, and attributes.  Variables also have attributes.  Variables may share dimensions, indicating a common grid.  One dimension may be of unlimited length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92320" y="3446640"/>
            <a:ext cx="1322640" cy="1060200"/>
          </a:xfrm>
          <a:prstGeom prst="rect">
            <a:avLst/>
          </a:prstGeom>
          <a:solidFill>
            <a:srgbClr val="c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1808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: St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ngth: 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sUnlimited( 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90880" y="3754440"/>
            <a:ext cx="1320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95560" y="4251240"/>
            <a:ext cx="1312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6080" y="3597120"/>
            <a:ext cx="1553760" cy="1062360"/>
            <a:chOff x="316080" y="3597120"/>
            <a:chExt cx="1553760" cy="1062360"/>
          </a:xfrm>
        </p:grpSpPr>
        <p:sp>
          <p:nvSpPr>
            <p:cNvPr id="144" name=""/>
            <p:cNvSpPr/>
            <p:nvPr/>
          </p:nvSpPr>
          <p:spPr>
            <a:xfrm>
              <a:off x="318600" y="3597120"/>
              <a:ext cx="1551240" cy="106236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ame: St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ype: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</a:rPr>
                <a:t>DataTyp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alues: 1D arr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6080" y="3904560"/>
              <a:ext cx="15512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300320" y="4867200"/>
            <a:ext cx="1698120" cy="1306440"/>
            <a:chOff x="1300320" y="4867200"/>
            <a:chExt cx="1698120" cy="1306440"/>
          </a:xfrm>
        </p:grpSpPr>
        <p:sp>
          <p:nvSpPr>
            <p:cNvPr id="147" name=""/>
            <p:cNvSpPr/>
            <p:nvPr/>
          </p:nvSpPr>
          <p:spPr>
            <a:xfrm>
              <a:off x="1301400" y="4867200"/>
              <a:ext cx="1697040" cy="130644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ame: St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hape: Dimension[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ype: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</a:rPr>
                <a:t>DataTyp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rray: read( ), …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0320" y="5165640"/>
              <a:ext cx="16945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02840" y="5916960"/>
              <a:ext cx="1694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28600" y="1600200"/>
            <a:ext cx="155520" cy="16524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20360" y="1682640"/>
            <a:ext cx="412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040" y="1676520"/>
            <a:ext cx="3240" cy="19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012480" y="1600200"/>
            <a:ext cx="152280" cy="16524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60800" y="1684440"/>
            <a:ext cx="411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576240" y="1676520"/>
            <a:ext cx="4680" cy="17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17480" y="4686840"/>
            <a:ext cx="566280" cy="901080"/>
            <a:chOff x="717480" y="4686840"/>
            <a:chExt cx="566280" cy="901080"/>
          </a:xfrm>
        </p:grpSpPr>
        <p:sp>
          <p:nvSpPr>
            <p:cNvPr id="157" name=""/>
            <p:cNvSpPr/>
            <p:nvPr/>
          </p:nvSpPr>
          <p:spPr>
            <a:xfrm flipH="1" rot="10800000">
              <a:off x="1128960" y="5421960"/>
              <a:ext cx="154800" cy="16596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19640" y="5505480"/>
              <a:ext cx="4129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7480" y="4686840"/>
              <a:ext cx="1080" cy="81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009960" y="4511160"/>
            <a:ext cx="563040" cy="1076400"/>
            <a:chOff x="3009960" y="4511160"/>
            <a:chExt cx="563040" cy="1076400"/>
          </a:xfrm>
        </p:grpSpPr>
        <p:sp>
          <p:nvSpPr>
            <p:cNvPr id="161" name=""/>
            <p:cNvSpPr/>
            <p:nvPr/>
          </p:nvSpPr>
          <p:spPr>
            <a:xfrm rot="10800000">
              <a:off x="3009960" y="5421960"/>
              <a:ext cx="154080" cy="165600"/>
            </a:xfrm>
            <a:prstGeom prst="diamond">
              <a:avLst/>
            </a:prstGeom>
            <a:solidFill>
              <a:srgbClr val="fcff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157560" y="5503320"/>
              <a:ext cx="41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571560" y="4511160"/>
              <a:ext cx="1440" cy="9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44600" y="2116080"/>
            <a:ext cx="154080" cy="16992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19480" y="2286000"/>
            <a:ext cx="2880" cy="256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8520" y="1249200"/>
            <a:ext cx="1698480" cy="814680"/>
            <a:chOff x="1298520" y="1249200"/>
            <a:chExt cx="1698480" cy="814680"/>
          </a:xfrm>
        </p:grpSpPr>
        <p:sp>
          <p:nvSpPr>
            <p:cNvPr id="167" name=""/>
            <p:cNvSpPr/>
            <p:nvPr/>
          </p:nvSpPr>
          <p:spPr>
            <a:xfrm>
              <a:off x="1299600" y="1249200"/>
              <a:ext cx="1697400" cy="81468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ocation: Filena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reate( ), open( ), …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8520" y="1548720"/>
              <a:ext cx="1694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01040" y="1810800"/>
              <a:ext cx="1694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440240" y="1247760"/>
            <a:ext cx="4521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0280" tIns="0" bIns="0" anchor="t">
            <a:noAutofit/>
          </a:bodyPr>
          <a:p>
            <a:pPr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Variables and attributes have one of </a:t>
            </a:r>
            <a:r>
              <a:rPr b="1" i="1" lang="en-US" sz="1500" spc="-1" strike="noStrike">
                <a:solidFill>
                  <a:srgbClr val="a90000"/>
                </a:solidFill>
                <a:latin typeface="Times New Roman"/>
              </a:rPr>
              <a:t>six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 primitive data typ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32360" y="1871640"/>
            <a:ext cx="1660680" cy="311040"/>
          </a:xfrm>
          <a:prstGeom prst="rect">
            <a:avLst/>
          </a:prstGeom>
          <a:solidFill>
            <a:srgbClr val="c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8028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657520"/>
            <a:ext cx="1595520" cy="1541520"/>
          </a:xfrm>
          <a:prstGeom prst="rect">
            <a:avLst/>
          </a:prstGeom>
          <a:solidFill>
            <a:srgbClr val="c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8028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imitive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y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rt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2895480"/>
            <a:ext cx="1595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79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6560" y="2251080"/>
            <a:ext cx="10944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79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43800" y="240840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79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hanc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netCDF data model, for netCDF-4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16080" y="1247760"/>
            <a:ext cx="8645400" cy="5295960"/>
            <a:chOff x="316080" y="1247760"/>
            <a:chExt cx="8645400" cy="5295960"/>
          </a:xfrm>
        </p:grpSpPr>
        <p:sp>
          <p:nvSpPr>
            <p:cNvPr id="178" name=""/>
            <p:cNvSpPr/>
            <p:nvPr/>
          </p:nvSpPr>
          <p:spPr>
            <a:xfrm>
              <a:off x="3578400" y="5587920"/>
              <a:ext cx="53830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A file has 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a top-level unnamed group.  Each group may contain one or more named subgroups, user-defined types,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 variables, dimensions, and attributes.  Variables also have attributes.  Variables may share dimensions, indicating a common grid.  One 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or more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 dimension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s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 may be of unlimited length.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92320" y="3446640"/>
              <a:ext cx="1322640" cy="106020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Dimens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ame: St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ength: i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sUnlimited( 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90880" y="3754440"/>
              <a:ext cx="132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5560" y="4251240"/>
              <a:ext cx="131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16080" y="3597120"/>
              <a:ext cx="1553760" cy="1062360"/>
              <a:chOff x="316080" y="3597120"/>
              <a:chExt cx="1553760" cy="1062360"/>
            </a:xfrm>
          </p:grpSpPr>
          <p:sp>
            <p:nvSpPr>
              <p:cNvPr id="183" name=""/>
              <p:cNvSpPr/>
              <p:nvPr/>
            </p:nvSpPr>
            <p:spPr>
              <a:xfrm>
                <a:off x="318600" y="3597120"/>
                <a:ext cx="1551240" cy="1062360"/>
              </a:xfrm>
              <a:prstGeom prst="rect">
                <a:avLst/>
              </a:prstGeom>
              <a:solidFill>
                <a:srgbClr val="c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Attribut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name: Str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type: </a:t>
                </a:r>
                <a:r>
                  <a:rPr b="1" i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taTyp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values: 1D arra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6080" y="3904560"/>
                <a:ext cx="155124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300320" y="4867200"/>
              <a:ext cx="1698120" cy="1306440"/>
              <a:chOff x="1300320" y="4867200"/>
              <a:chExt cx="1698120" cy="1306440"/>
            </a:xfrm>
          </p:grpSpPr>
          <p:sp>
            <p:nvSpPr>
              <p:cNvPr id="186" name=""/>
              <p:cNvSpPr/>
              <p:nvPr/>
            </p:nvSpPr>
            <p:spPr>
              <a:xfrm>
                <a:off x="1301400" y="4867200"/>
                <a:ext cx="1697040" cy="1306440"/>
              </a:xfrm>
              <a:prstGeom prst="rect">
                <a:avLst/>
              </a:prstGeom>
              <a:solidFill>
                <a:srgbClr val="c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Variabl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name: Str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hape: Dimension[ ]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type:   </a:t>
                </a:r>
                <a:r>
                  <a:rPr b="1" i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taTyp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rray: read( ), …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00320" y="5165640"/>
                <a:ext cx="16945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02840" y="5916960"/>
                <a:ext cx="16941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300320" y="2476440"/>
              <a:ext cx="1695240" cy="56844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G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i="1" lang="en-US" sz="1300" spc="-1" strike="noStrike">
                  <a:solidFill>
                    <a:srgbClr val="a90000"/>
                  </a:solidFill>
                  <a:latin typeface="Times New Roman"/>
                </a:rPr>
                <a:t>  </a:t>
              </a:r>
              <a:r>
                <a:rPr b="0" i="1" lang="en-US" sz="1300" spc="-1" strike="noStrike">
                  <a:solidFill>
                    <a:srgbClr val="a90000"/>
                  </a:solidFill>
                  <a:latin typeface="Times New Roman"/>
                </a:rPr>
                <a:t>name: St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8520" y="2776680"/>
              <a:ext cx="1693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17480" y="2697120"/>
              <a:ext cx="566280" cy="901440"/>
              <a:chOff x="717480" y="2697120"/>
              <a:chExt cx="566280" cy="901440"/>
            </a:xfrm>
          </p:grpSpPr>
          <p:sp>
            <p:nvSpPr>
              <p:cNvPr id="192" name=""/>
              <p:cNvSpPr/>
              <p:nvPr/>
            </p:nvSpPr>
            <p:spPr>
              <a:xfrm>
                <a:off x="1128960" y="2697120"/>
                <a:ext cx="154800" cy="1656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719640" y="2779560"/>
                <a:ext cx="4129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7480" y="2778480"/>
                <a:ext cx="1080" cy="82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3012480" y="2840040"/>
              <a:ext cx="152280" cy="16524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0800" y="2924280"/>
              <a:ext cx="411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576240" y="2914560"/>
              <a:ext cx="1800" cy="52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17480" y="4686840"/>
              <a:ext cx="566280" cy="901080"/>
              <a:chOff x="717480" y="4686840"/>
              <a:chExt cx="566280" cy="901080"/>
            </a:xfrm>
          </p:grpSpPr>
          <p:sp>
            <p:nvSpPr>
              <p:cNvPr id="199" name=""/>
              <p:cNvSpPr/>
              <p:nvPr/>
            </p:nvSpPr>
            <p:spPr>
              <a:xfrm flipH="1" rot="10800000">
                <a:off x="1128960" y="5421960"/>
                <a:ext cx="154800" cy="16596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719640" y="5505480"/>
                <a:ext cx="4129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717480" y="4686840"/>
                <a:ext cx="1080" cy="81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009960" y="4511160"/>
              <a:ext cx="563040" cy="1076400"/>
              <a:chOff x="3009960" y="4511160"/>
              <a:chExt cx="563040" cy="1076400"/>
            </a:xfrm>
          </p:grpSpPr>
          <p:sp>
            <p:nvSpPr>
              <p:cNvPr id="203" name=""/>
              <p:cNvSpPr/>
              <p:nvPr/>
            </p:nvSpPr>
            <p:spPr>
              <a:xfrm rot="10800000">
                <a:off x="3009960" y="5421960"/>
                <a:ext cx="154080" cy="165600"/>
              </a:xfrm>
              <a:prstGeom prst="diamond">
                <a:avLst/>
              </a:prstGeom>
              <a:solidFill>
                <a:srgbClr val="fcff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157560" y="5503320"/>
                <a:ext cx="4107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3571560" y="4511160"/>
                <a:ext cx="1440" cy="9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44600" y="3044880"/>
              <a:ext cx="154080" cy="16992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20920" y="3179880"/>
              <a:ext cx="1440" cy="167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298520" y="1249200"/>
              <a:ext cx="1698480" cy="814680"/>
              <a:chOff x="1298520" y="1249200"/>
              <a:chExt cx="1698480" cy="814680"/>
            </a:xfrm>
          </p:grpSpPr>
          <p:sp>
            <p:nvSpPr>
              <p:cNvPr id="209" name=""/>
              <p:cNvSpPr/>
              <p:nvPr/>
            </p:nvSpPr>
            <p:spPr>
              <a:xfrm>
                <a:off x="1299600" y="1249200"/>
                <a:ext cx="1697400" cy="814680"/>
              </a:xfrm>
              <a:prstGeom prst="rect">
                <a:avLst/>
              </a:prstGeom>
              <a:solidFill>
                <a:srgbClr val="c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location: Filenam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create( ), open( ), …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8520" y="1548720"/>
                <a:ext cx="1694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01040" y="1810800"/>
                <a:ext cx="1694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2197080" y="2451240"/>
              <a:ext cx="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442880" y="3044880"/>
              <a:ext cx="504720" cy="350640"/>
              <a:chOff x="1442880" y="3044880"/>
              <a:chExt cx="504720" cy="35064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1792800" y="3044880"/>
                <a:ext cx="154440" cy="1656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1870560" y="3175560"/>
                <a:ext cx="1080" cy="219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443960" y="3044880"/>
                <a:ext cx="1080" cy="350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442880" y="3385080"/>
                <a:ext cx="42624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4440240" y="1247760"/>
              <a:ext cx="45212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8028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76"/>
                </a:spcBef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Variables and attributes have one of 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twelve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 primitive data types 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or one of four user-defined types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4902120" y="1871640"/>
              <a:ext cx="3517560" cy="3489120"/>
              <a:chOff x="4902120" y="1871640"/>
              <a:chExt cx="3517560" cy="3489120"/>
            </a:xfrm>
          </p:grpSpPr>
          <p:sp>
            <p:nvSpPr>
              <p:cNvPr id="220" name=""/>
              <p:cNvSpPr/>
              <p:nvPr/>
            </p:nvSpPr>
            <p:spPr>
              <a:xfrm>
                <a:off x="5831640" y="1871640"/>
                <a:ext cx="1661400" cy="310680"/>
              </a:xfrm>
              <a:prstGeom prst="rect">
                <a:avLst/>
              </a:prstGeom>
              <a:solidFill>
                <a:srgbClr val="c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0280" tIns="0" bIns="0" anchor="t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Data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823080" y="2573640"/>
                <a:ext cx="1596600" cy="2787120"/>
                <a:chOff x="6823080" y="2573640"/>
                <a:chExt cx="1596600" cy="2787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824160" y="2573640"/>
                  <a:ext cx="1595520" cy="278712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PrimitiveTyp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char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byt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hort     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in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int6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floa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doubl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unsigned byte     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unsigned short     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unsigned in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unsigned int6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str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823080" y="2820960"/>
                  <a:ext cx="159552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903200" y="2572560"/>
                <a:ext cx="1661040" cy="568080"/>
                <a:chOff x="4903200" y="2572560"/>
                <a:chExt cx="1661040" cy="5680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904280" y="2572560"/>
                  <a:ext cx="1659960" cy="56808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500" spc="-1" strike="noStrike">
                      <a:solidFill>
                        <a:srgbClr val="a90000"/>
                      </a:solidFill>
                      <a:latin typeface="Times New Roman"/>
                    </a:rPr>
                    <a:t>UserDefinedTyp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6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    </a:t>
                  </a: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typename: Str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903200" y="2868840"/>
                  <a:ext cx="165456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6087240" y="2255040"/>
                <a:ext cx="126720" cy="312120"/>
                <a:chOff x="6087240" y="2255040"/>
                <a:chExt cx="126720" cy="3121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087240" y="2255040"/>
                  <a:ext cx="1267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53840" y="2411640"/>
                  <a:ext cx="1080" cy="155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902120" y="3173400"/>
                <a:ext cx="1779120" cy="2179440"/>
                <a:chOff x="4902120" y="3173400"/>
                <a:chExt cx="1779120" cy="21794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906080" y="4490280"/>
                  <a:ext cx="1382760" cy="30960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Compound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02120" y="5042880"/>
                  <a:ext cx="1779120" cy="30996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VariableLength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06080" y="3385800"/>
                  <a:ext cx="757800" cy="30960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Enum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902120" y="3938760"/>
                  <a:ext cx="1069920" cy="30960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Opaqu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5448600" y="3173400"/>
                  <a:ext cx="128160" cy="213120"/>
                  <a:chOff x="5448600" y="3173400"/>
                  <a:chExt cx="128160" cy="21312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5448600" y="3173400"/>
                    <a:ext cx="128160" cy="152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514120" y="3330000"/>
                    <a:ext cx="2520" cy="565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5761080" y="3173400"/>
                  <a:ext cx="128520" cy="766440"/>
                  <a:chOff x="5761080" y="3173400"/>
                  <a:chExt cx="128520" cy="7664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5761080" y="3173400"/>
                    <a:ext cx="128520" cy="152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5828400" y="3330360"/>
                    <a:ext cx="10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075000" y="3173400"/>
                  <a:ext cx="128520" cy="1312200"/>
                  <a:chOff x="6075000" y="3173400"/>
                  <a:chExt cx="128520" cy="13122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6075000" y="3173400"/>
                    <a:ext cx="128520" cy="152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6141600" y="3330360"/>
                    <a:ext cx="1080" cy="1155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388560" y="3173400"/>
                  <a:ext cx="128520" cy="1870920"/>
                  <a:chOff x="6388560" y="3173400"/>
                  <a:chExt cx="128520" cy="187092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6388560" y="3173400"/>
                    <a:ext cx="128520" cy="152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6455160" y="3330360"/>
                    <a:ext cx="1080" cy="1713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7080480" y="2250720"/>
                <a:ext cx="126720" cy="312120"/>
                <a:chOff x="7080480" y="2250720"/>
                <a:chExt cx="126720" cy="312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080480" y="2250720"/>
                  <a:ext cx="1267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47080" y="2407320"/>
                  <a:ext cx="1080" cy="155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2119320" y="2063880"/>
              <a:ext cx="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031560" y="2584440"/>
              <a:ext cx="152280" cy="16524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79880" y="2666880"/>
              <a:ext cx="17096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43000" y="2293920"/>
              <a:ext cx="154080" cy="16992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tCDF-4 classic-model: a transitional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960" y="5308560"/>
            <a:ext cx="2806920" cy="1219320"/>
          </a:xfrm>
          <a:prstGeom prst="rect">
            <a:avLst/>
          </a:prstGeom>
          <a:solidFill>
            <a:srgbClr val="e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960" y="3467160"/>
            <a:ext cx="2806920" cy="1219320"/>
          </a:xfrm>
          <a:prstGeom prst="rect">
            <a:avLst/>
          </a:prstGeom>
          <a:solidFill>
            <a:srgbClr val="f3d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960" y="1612800"/>
            <a:ext cx="2806920" cy="1219320"/>
          </a:xfrm>
          <a:prstGeom prst="rect">
            <a:avLst/>
          </a:prstGeom>
          <a:solidFill>
            <a:srgbClr val="e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11760" y="5359320"/>
            <a:ext cx="454644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le with exist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 data model and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11760" y="1571760"/>
            <a:ext cx="454644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compatible with some exist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data model and API, more complex,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11760" y="3352680"/>
            <a:ext cx="488952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classic API for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netCDF-4/HDF5 storage for compression, chunking,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se, just recompile, re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ther ways netCDF supports data durabi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 Conventions add earth-science specific semantics to low-level data model, without changing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netCDF reads multiple data formats through an abstract Common Data Mod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4, HDF5, HDF-EOS, GRIB1, GRIB2, BUFR, GEMPAK, GINI, DMSP, NEXRAD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ML wrappers support efficient addition of new metadata, virtual aggr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” attribute for provenance automatically maintained by utilities like 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ヒラギノ角ゴ ProN W3"/>
              </a:rPr>
              <a:t>_x0018_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ding</a:t>
            </a:r>
            <a:r>
              <a:rPr b="0" lang="en-US" sz="2800" spc="-1" strike="noStrike">
                <a:solidFill>
                  <a:srgbClr val="333399"/>
                </a:solidFill>
                <a:latin typeface="ヒラギノ角ゴ ProN W3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mark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obsolescence need not be an issue for data du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 data models by extension, not by incompatible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previous programming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previous format variants transpa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gratuitous invention of new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eservation and stewardship requires much more than dealing with format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fail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 or administrativ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 preserving data, is format obsolescence a non-issu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formats (and their access software)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format changes consistent with data preservation and stewards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evolution of formats support preservation and stewards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inciples should guide format developers in support of data dur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ost important threats to netCDF data in arch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y do open formats and their supporting software libraries chang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0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tter represent data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ing intent of data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metadata advances, new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mprove performance, avoid obsol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ion, caching, chunking, indexing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f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hance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ing specialized formats with more general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x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-bit offsets for data i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II characters for all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spond to users’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do formats chang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581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formats don’t change, they’re defined once and frozen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27672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ormats change infrequently and usually incompati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800600"/>
            <a:ext cx="3505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formats (and their software) may evolve in lots of small inc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19720" y="4431960"/>
            <a:ext cx="4406400" cy="2121120"/>
            <a:chOff x="4419720" y="4431960"/>
            <a:chExt cx="4406400" cy="2121120"/>
          </a:xfrm>
        </p:grpSpPr>
        <p:grpSp>
          <p:nvGrpSpPr>
            <p:cNvPr id="61" name=""/>
            <p:cNvGrpSpPr/>
            <p:nvPr/>
          </p:nvGrpSpPr>
          <p:grpSpPr>
            <a:xfrm>
              <a:off x="4419720" y="5841720"/>
              <a:ext cx="1487160" cy="711360"/>
              <a:chOff x="4419720" y="5841720"/>
              <a:chExt cx="1487160" cy="7113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4419720" y="6184440"/>
                <a:ext cx="750600" cy="368640"/>
                <a:chOff x="4419720" y="6184440"/>
                <a:chExt cx="750600" cy="3686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968720" y="636264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V="1">
                  <a:off x="5160960" y="618444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419720" y="653400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697280" y="636264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4697280" y="635652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156280" y="5841720"/>
                <a:ext cx="750600" cy="368640"/>
                <a:chOff x="5156280" y="5841720"/>
                <a:chExt cx="750600" cy="36864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705280" y="601992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5897520" y="584172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156280" y="619128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33840" y="601992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V="1">
                  <a:off x="5433840" y="601380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"/>
            <p:cNvGrpSpPr/>
            <p:nvPr/>
          </p:nvGrpSpPr>
          <p:grpSpPr>
            <a:xfrm>
              <a:off x="5880240" y="5143320"/>
              <a:ext cx="1487160" cy="711360"/>
              <a:chOff x="5880240" y="5143320"/>
              <a:chExt cx="1487160" cy="711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880240" y="5486040"/>
                <a:ext cx="750600" cy="368640"/>
                <a:chOff x="5880240" y="5486040"/>
                <a:chExt cx="750600" cy="3686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29240" y="566424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6621480" y="548604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880240" y="583560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157800" y="566424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157800" y="565812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616800" y="5143320"/>
                <a:ext cx="750600" cy="368640"/>
                <a:chOff x="6616800" y="5143320"/>
                <a:chExt cx="750600" cy="368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165800" y="532152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7358040" y="514332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616800" y="549288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894360" y="532152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6894360" y="531540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"/>
            <p:cNvGrpSpPr/>
            <p:nvPr/>
          </p:nvGrpSpPr>
          <p:grpSpPr>
            <a:xfrm>
              <a:off x="7338960" y="4431960"/>
              <a:ext cx="1487160" cy="711360"/>
              <a:chOff x="7338960" y="4431960"/>
              <a:chExt cx="1487160" cy="7113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7338960" y="4774680"/>
                <a:ext cx="750600" cy="368640"/>
                <a:chOff x="7338960" y="4774680"/>
                <a:chExt cx="750600" cy="368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887960" y="495288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8080200" y="477468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338960" y="512424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16520" y="495288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7616520" y="494676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8075520" y="4431960"/>
                <a:ext cx="750600" cy="368640"/>
                <a:chOff x="8075520" y="4431960"/>
                <a:chExt cx="750600" cy="368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624520" y="461016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8816760" y="443196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075520" y="478152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353080" y="461016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8353080" y="460404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0" name=""/>
          <p:cNvGrpSpPr/>
          <p:nvPr/>
        </p:nvGrpSpPr>
        <p:grpSpPr>
          <a:xfrm>
            <a:off x="4419720" y="1689120"/>
            <a:ext cx="4419360" cy="1065960"/>
            <a:chOff x="4419720" y="1689120"/>
            <a:chExt cx="4419360" cy="1065960"/>
          </a:xfrm>
        </p:grpSpPr>
        <p:sp>
          <p:nvSpPr>
            <p:cNvPr id="101" name=""/>
            <p:cNvSpPr/>
            <p:nvPr/>
          </p:nvSpPr>
          <p:spPr>
            <a:xfrm>
              <a:off x="4419720" y="2736720"/>
              <a:ext cx="2209680" cy="0"/>
            </a:xfrm>
            <a:prstGeom prst="line">
              <a:avLst/>
            </a:prstGeom>
            <a:ln w="38160">
              <a:solidFill>
                <a:srgbClr val="9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2057040"/>
              <a:ext cx="2209680" cy="0"/>
            </a:xfrm>
            <a:prstGeom prst="line">
              <a:avLst/>
            </a:prstGeom>
            <a:ln w="38160">
              <a:solidFill>
                <a:srgbClr val="9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629400" y="2050560"/>
              <a:ext cx="0" cy="704520"/>
            </a:xfrm>
            <a:prstGeom prst="line">
              <a:avLst/>
            </a:prstGeom>
            <a:ln w="38160">
              <a:solidFill>
                <a:srgbClr val="9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77400" y="1689120"/>
              <a:ext cx="84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C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43400" y="3040200"/>
            <a:ext cx="4471920" cy="1411200"/>
            <a:chOff x="4343400" y="3040200"/>
            <a:chExt cx="4471920" cy="1411200"/>
          </a:xfrm>
        </p:grpSpPr>
        <p:grpSp>
          <p:nvGrpSpPr>
            <p:cNvPr id="106" name=""/>
            <p:cNvGrpSpPr/>
            <p:nvPr/>
          </p:nvGrpSpPr>
          <p:grpSpPr>
            <a:xfrm>
              <a:off x="4343400" y="3498840"/>
              <a:ext cx="4406400" cy="952560"/>
              <a:chOff x="4343400" y="3498840"/>
              <a:chExt cx="4406400" cy="9525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889680" y="3498840"/>
                <a:ext cx="1860120" cy="457200"/>
                <a:chOff x="6889680" y="3498840"/>
                <a:chExt cx="1860120" cy="4572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889680" y="3936960"/>
                  <a:ext cx="93024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19920" y="3505320"/>
                  <a:ext cx="92988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7819920" y="3498840"/>
                  <a:ext cx="0" cy="45720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4343400" y="4432320"/>
                <a:ext cx="1279440" cy="0"/>
              </a:xfrm>
              <a:prstGeom prst="line">
                <a:avLst/>
              </a:prstGeom>
              <a:ln w="38160">
                <a:solidFill>
                  <a:srgbClr val="9a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22840" y="3936960"/>
                <a:ext cx="1279440" cy="0"/>
              </a:xfrm>
              <a:prstGeom prst="line">
                <a:avLst/>
              </a:prstGeom>
              <a:ln w="38160">
                <a:solidFill>
                  <a:srgbClr val="9a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622840" y="3930840"/>
                <a:ext cx="0" cy="520560"/>
              </a:xfrm>
              <a:prstGeom prst="line">
                <a:avLst/>
              </a:prstGeom>
              <a:ln w="38160">
                <a:solidFill>
                  <a:srgbClr val="9a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159240" y="349884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IB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00840" y="304020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IB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750920" y="636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9640" y="56894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48400" y="46227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9720" y="5130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4600" y="58420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tCDF: not just a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platform-independent data (NASA ESDS-RFC-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-netCDF is being proposed as a formal OGC binary encoding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822840"/>
            <a:ext cx="777240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ultidimensional and structured scientif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application programming 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, Java, Fortran, C++, …)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162240"/>
            <a:ext cx="57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 netCDF i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06440" y="304920"/>
            <a:ext cx="11430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has netCDF changed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868320"/>
          <a:ext cx="8153280" cy="5627880"/>
        </p:xfrm>
        <a:graphic>
          <a:graphicData uri="http://schemas.openxmlformats.org/drawingml/2006/table">
            <a:tbl>
              <a:tblPr/>
              <a:tblGrid>
                <a:gridCol w="1309680"/>
                <a:gridCol w="1384200"/>
                <a:gridCol w="5459400"/>
              </a:tblGrid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rm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: 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CDF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-bit off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DAP client suppor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/inclusion of udunits and libcf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HDF5 and HDF4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: 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CDF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-bit off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data model, expanded API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F5 storage layer, compression, chunking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I/O, Unicode names,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: 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-bit off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ML, 64-bit offset fo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: 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Java API,  Fortran-90 A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: 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 API, limited large file support, performance enhanc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: 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F77 “version 3” type-safe A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: 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 API, optimizations, format spec publis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: 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F77 A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ys to deal with format chang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published standards for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standardizat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B1 (1985) to GRIB2 (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actical if many intermediate versions (e.g CF Conventions 1.0, 1.1, 1.2, 1.3, 1.4, 1.5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archived data period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ing older formats is costly,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ng to a more general format may break older access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data access software versions wit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data archives to become software version control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s often unnecessary burden on data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a commitment to compatibility by format developers, maintainers, and responsibl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 commitm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cientific data, preserving access to data for future generations should be </a:t>
            </a:r>
            <a:r>
              <a:rPr b="0" lang="en-US" sz="2400" spc="-1" strike="noStrike">
                <a:solidFill>
                  <a:srgbClr val="9a0000"/>
                </a:solidFill>
                <a:latin typeface="Lucida Blackletter"/>
              </a:rPr>
              <a:t>sacrosa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commitment is needed to ensure practical access to old data by new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library evolution can ensure data and API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public commitment presented at American Meteorological Society annual meeting, January 2006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53740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DejaVu Sans Condensed"/>
                <a:ea typeface="DejaVu San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838080"/>
            <a:ext cx="7467840" cy="518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171360" algn="ctr">
              <a:lnSpc>
                <a:spcPct val="124000"/>
              </a:lnSpc>
              <a:tabLst>
                <a:tab algn="l" pos="0"/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1360" algn="ctr">
              <a:lnSpc>
                <a:spcPct val="124000"/>
              </a:lnSpc>
              <a:tabLst>
                <a:tab algn="l" pos="0"/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21000"/>
              </a:lnSpc>
              <a:tabLst>
                <a:tab algn="l" pos="0"/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2000" spc="-1" strike="noStrike">
                <a:solidFill>
                  <a:srgbClr val="23069a"/>
                </a:solidFill>
                <a:latin typeface="Century Schoolbook L"/>
                <a:ea typeface="ZVZQIU+LucidaBlackletter"/>
              </a:rPr>
              <a:t>For future access to archives, netCDF development will continue to ensure the compatibility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7840">
              <a:lnSpc>
                <a:spcPct val="12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Data access: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  netCDF software will provide both read and write access to 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VZKFTS+ComicSansMS-Bold"/>
              </a:rPr>
              <a:t>all 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earlier forms of netCD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7840">
              <a:lnSpc>
                <a:spcPct val="12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Programming interfaces: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 C, Fortran, and Java programs using documented netCDF APIs from previous versions will continue to work after recompiling and relinking (if need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7840">
              <a:lnSpc>
                <a:spcPct val="12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Future versions: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 netCDF will continue to support both data access compatibility and API compatibility in future rel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472520" y="53006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010240" y="99072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rial"/>
              </a:rPr>
              <a:t>Declaration of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6:16:56Z</dcterms:created>
  <dc:creator>Russ Rew</dc:creator>
  <dc:description/>
  <dc:language>en-US</dc:language>
  <cp:lastModifiedBy>Russ Rew</cp:lastModifiedBy>
  <cp:lastPrinted>2009-07-03T17:33:37Z</cp:lastPrinted>
  <dcterms:modified xsi:type="dcterms:W3CDTF">2009-07-09T15:47:47Z</dcterms:modified>
  <cp:revision>100</cp:revision>
  <dc:subject/>
  <dc:title>Data preservation, stewardship, and netCDF:</dc:title>
</cp:coreProperties>
</file>